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789EA-D825-420B-A093-BFA2D12DE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3309A-3AF9-4565-80D1-B23C95DCD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9AA17-13C8-4984-8471-9CCB85039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149EF-BE36-4B69-83ED-0CA46C457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61A57-2986-48CB-8E34-1495ADC4C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EEB1F-A941-4E26-9BDA-D6E227B5A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FD704-022D-4401-9CDA-BDB20289C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C5F71-1602-47AD-9797-C5974935D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4C5CA-8FF1-4840-A711-0C82145D3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62DA-97C0-41B3-AD52-2B16FC4EC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3B4C5-4E83-42C3-828C-4FE5D8AB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D5E55-1979-4727-B567-591CEFC07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CF07-597D-4D0E-A856-9A740558CFA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5"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4"/>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rea como tal Obras y Proyectos Aguirre. S. L</a:t>
            </a:r>
            <a:r>
              <a:rPr b="0" lang="es-ES_tradnl" sz="1800" spc="-1" strike="noStrike">
                <a:solidFill>
                  <a:srgbClr val="000000"/>
                </a:solidFill>
                <a:latin typeface="Arial"/>
              </a:rPr>
              <a:t> </a:t>
            </a:r>
            <a:r>
              <a:rPr b="0" lang="es-ES_tradnl" sz="1000" spc="-1" strike="noStrike">
                <a:solidFill>
                  <a:srgbClr val="000000"/>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3"/>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bido a que esta empresa se ha mantenido en un proceso estable, podemos 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04" name=""/>
          <p:cNvGrpSpPr/>
          <p:nvPr/>
        </p:nvGrpSpPr>
        <p:grpSpPr>
          <a:xfrm>
            <a:off x="1440" y="0"/>
            <a:ext cx="9183960" cy="6886800"/>
            <a:chOff x="1440" y="0"/>
            <a:chExt cx="9183960" cy="6886800"/>
          </a:xfrm>
        </p:grpSpPr>
        <p:grpSp>
          <p:nvGrpSpPr>
            <p:cNvPr id="505" name=""/>
            <p:cNvGrpSpPr/>
            <p:nvPr/>
          </p:nvGrpSpPr>
          <p:grpSpPr>
            <a:xfrm>
              <a:off x="1440" y="0"/>
              <a:ext cx="9178920" cy="6886800"/>
              <a:chOff x="1440" y="0"/>
              <a:chExt cx="9178920" cy="6886800"/>
            </a:xfrm>
          </p:grpSpPr>
          <p:grpSp>
            <p:nvGrpSpPr>
              <p:cNvPr id="506" name=""/>
              <p:cNvGrpSpPr/>
              <p:nvPr/>
            </p:nvGrpSpPr>
            <p:grpSpPr>
              <a:xfrm>
                <a:off x="1440" y="0"/>
                <a:ext cx="9178920" cy="6886800"/>
                <a:chOff x="1440" y="0"/>
                <a:chExt cx="9178920" cy="6886800"/>
              </a:xfrm>
            </p:grpSpPr>
            <p:grpSp>
              <p:nvGrpSpPr>
                <p:cNvPr id="507" name=""/>
                <p:cNvGrpSpPr/>
                <p:nvPr/>
              </p:nvGrpSpPr>
              <p:grpSpPr>
                <a:xfrm>
                  <a:off x="1440" y="0"/>
                  <a:ext cx="9178920" cy="6886800"/>
                  <a:chOff x="1440" y="0"/>
                  <a:chExt cx="9178920" cy="6886800"/>
                </a:xfrm>
              </p:grpSpPr>
              <p:grpSp>
                <p:nvGrpSpPr>
                  <p:cNvPr id="508" name=""/>
                  <p:cNvGrpSpPr/>
                  <p:nvPr/>
                </p:nvGrpSpPr>
                <p:grpSpPr>
                  <a:xfrm>
                    <a:off x="1440" y="0"/>
                    <a:ext cx="9178920" cy="6858000"/>
                    <a:chOff x="1440" y="0"/>
                    <a:chExt cx="9178920" cy="6858000"/>
                  </a:xfrm>
                </p:grpSpPr>
                <p:sp>
                  <p:nvSpPr>
                    <p:cNvPr id="50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0" name=""/>
                    <p:cNvGrpSpPr/>
                    <p:nvPr/>
                  </p:nvGrpSpPr>
                  <p:grpSpPr>
                    <a:xfrm>
                      <a:off x="539640" y="0"/>
                      <a:ext cx="8640720" cy="6381720"/>
                      <a:chOff x="539640" y="0"/>
                      <a:chExt cx="8640720" cy="6381720"/>
                    </a:xfrm>
                  </p:grpSpPr>
                  <p:grpSp>
                    <p:nvGrpSpPr>
                      <p:cNvPr id="511" name=""/>
                      <p:cNvGrpSpPr/>
                      <p:nvPr/>
                    </p:nvGrpSpPr>
                    <p:grpSpPr>
                      <a:xfrm>
                        <a:off x="576360" y="0"/>
                        <a:ext cx="8604000" cy="1628640"/>
                        <a:chOff x="576360" y="0"/>
                        <a:chExt cx="8604000" cy="1628640"/>
                      </a:xfrm>
                    </p:grpSpPr>
                    <p:sp>
                      <p:nvSpPr>
                        <p:cNvPr id="51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8" name=""/>
                  <p:cNvGrpSpPr/>
                  <p:nvPr/>
                </p:nvGrpSpPr>
                <p:grpSpPr>
                  <a:xfrm>
                    <a:off x="179280" y="12600"/>
                    <a:ext cx="576360" cy="6836040"/>
                    <a:chOff x="179280" y="12600"/>
                    <a:chExt cx="576360" cy="6836040"/>
                  </a:xfrm>
                </p:grpSpPr>
                <p:sp>
                  <p:nvSpPr>
                    <p:cNvPr id="51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7"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8"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2" name="" descr=""/>
            <p:cNvPicPr/>
            <p:nvPr/>
          </p:nvPicPr>
          <p:blipFill>
            <a:blip r:embed="rId1"/>
            <a:stretch/>
          </p:blipFill>
          <p:spPr>
            <a:xfrm>
              <a:off x="8782200" y="27000"/>
              <a:ext cx="403200" cy="954000"/>
            </a:xfrm>
            <a:prstGeom prst="rect">
              <a:avLst/>
            </a:prstGeom>
            <a:ln w="0">
              <a:noFill/>
            </a:ln>
          </p:spPr>
        </p:pic>
      </p:grpSp>
      <p:sp>
        <p:nvSpPr>
          <p:cNvPr id="613" name=""/>
          <p:cNvSpPr/>
          <p:nvPr/>
        </p:nvSpPr>
        <p:spPr>
          <a:xfrm>
            <a:off x="900000" y="1844640"/>
            <a:ext cx="8062920" cy="4358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
          <p:cNvSpPr txBox="1"/>
          <p:nvPr/>
        </p:nvSpPr>
        <p:spPr>
          <a:xfrm>
            <a:off x="3132000" y="1989000"/>
            <a:ext cx="36007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3T07:42:56Z</dcterms:modified>
  <cp:revision>161</cp:revision>
  <dc:subject/>
  <dc:title>Diapositiva 1</dc:title>
</cp:coreProperties>
</file>